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A6E-C89A-4309-B423-FBD2B92E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6A8-6796-454A-AC26-A20A3F56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9CE-BD92-4CC1-8C3D-C077E177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E64-5F67-4610-B7C7-1BB8BBC7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131-BD98-4367-B835-77A2E33A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100-111A-4721-8955-BB629429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5DC-0823-4889-81A2-C01A9721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B78-D32F-425A-B779-F874E884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90B-2DB8-4290-AAEA-759DEAF3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119-998A-4BC6-8D3D-9BF3D71B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4D5-5E8F-4D54-ACBA-0026F64B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DFE-0B48-47EE-BF1B-7129512F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48ebe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48ebe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48ebe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B2A9-A62E-4DD1-8AF1-6D2790D90CB6}" type="slidenum">
              <a:rPr b="0" lang="en-GB" sz="1200" spc="-1" strike="noStrike">
                <a:solidFill>
                  <a:srgbClr val="a48eb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pload.wikimedia.org/wikipedia/commons/thumb/f/fb/Russian_Royal_Family_1911_720px.jpg/330px-Russian_Royal_Family_1911_720px.jpg"/>
          <p:cNvPicPr/>
          <p:nvPr/>
        </p:nvPicPr>
        <p:blipFill>
          <a:blip r:embed="rId1"/>
          <a:stretch/>
        </p:blipFill>
        <p:spPr>
          <a:xfrm>
            <a:off x="0" y="-316080"/>
            <a:ext cx="9166320" cy="739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469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Imperial Russia</a:t>
            </a: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56000" y="5157720"/>
            <a:ext cx="6400800" cy="9352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Geography and People</a:t>
            </a: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encrypted-tbn1.gstatic.com/images?q=tbn:ANd9GcQcv8WUkhm7pMq4IL3JuoGWuvfCpezukDjXPJ7ZZfkGRbVOES_y"/>
          <p:cNvPicPr/>
          <p:nvPr/>
        </p:nvPicPr>
        <p:blipFill>
          <a:blip r:embed="rId1"/>
          <a:srcRect l="0" t="23077" r="0" b="22211"/>
          <a:stretch/>
        </p:blipFill>
        <p:spPr>
          <a:xfrm>
            <a:off x="3492360" y="260280"/>
            <a:ext cx="3167280" cy="1773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24000" y="54936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omic Sans MS"/>
              </a:rPr>
              <a:t>Learning Intention</a:t>
            </a: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By the end of this lesson you should be able to describe the geography of Russia in 1984 and identify potential problems for Tsar Nicholas.</a:t>
            </a: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11280" y="378936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omic Sans MS"/>
              </a:rPr>
              <a:t>Success Criteria</a:t>
            </a: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Work with your group to answer a question</a:t>
            </a: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nswer questions in your jotter in full sentences </a:t>
            </a: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47" name="Picture 4" descr="http://photos1.blogger.com/blogger/3343/2251/1600/target%5b1%5d.jpg"/>
          <p:cNvPicPr/>
          <p:nvPr/>
        </p:nvPicPr>
        <p:blipFill>
          <a:blip r:embed="rId2"/>
          <a:stretch/>
        </p:blipFill>
        <p:spPr>
          <a:xfrm rot="609000">
            <a:off x="3492000" y="3357360"/>
            <a:ext cx="1943280" cy="1417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49" name="Picture 2" descr="http://www.evo.org/sherlock/images/europe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404280"/>
            <a:ext cx="3178080" cy="2303640"/>
          </a:xfrm>
          <a:prstGeom prst="rect">
            <a:avLst/>
          </a:prstGeom>
          <a:noFill/>
          <a:ln w="28440">
            <a:solidFill>
              <a:srgbClr val="ff1a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In 1894 Nicholas II became 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Tsar</a:t>
            </a: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 of the Russian Empire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51" name="Picture 2" descr="http://www.theosophycardiff.walestheosophy.org.uk/Nicholas%20II.jpg"/>
          <p:cNvPicPr/>
          <p:nvPr/>
        </p:nvPicPr>
        <p:blipFill>
          <a:blip r:embed="rId1"/>
          <a:stretch/>
        </p:blipFill>
        <p:spPr>
          <a:xfrm>
            <a:off x="5148360" y="333360"/>
            <a:ext cx="3095640" cy="4297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2" name="Picture 4" descr="http://www.studiolum.com/wang/russian/russian-moscow-nicholas-ii-coronation-52k.jpg"/>
          <p:cNvPicPr/>
          <p:nvPr/>
        </p:nvPicPr>
        <p:blipFill>
          <a:blip r:embed="rId2"/>
          <a:stretch/>
        </p:blipFill>
        <p:spPr>
          <a:xfrm>
            <a:off x="179280" y="2997360"/>
            <a:ext cx="4608720" cy="3578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3" name="TextBox 5"/>
          <p:cNvSpPr/>
          <p:nvPr/>
        </p:nvSpPr>
        <p:spPr>
          <a:xfrm>
            <a:off x="5364000" y="5084640"/>
            <a:ext cx="3024360" cy="947160"/>
          </a:xfrm>
          <a:prstGeom prst="rect">
            <a:avLst/>
          </a:prstGeom>
          <a:noFill/>
          <a:ln w="28440">
            <a:solidFill>
              <a:srgbClr val="ff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He would be the Final Tsar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000" y="260280"/>
            <a:ext cx="6767640" cy="2376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The Russian Empire was huge!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covered 1/6</a:t>
            </a:r>
            <a:r>
              <a:rPr b="0" lang="en-GB" sz="2800" spc="-1" strike="noStrike" baseline="30000">
                <a:solidFill>
                  <a:srgbClr val="7030a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 of the earth’s surface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You could fit 90 Britains into Russia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55" name="Picture 2" descr="http://www.zum.de/whkmla/histatlas/russia/rusemoire04.gif"/>
          <p:cNvPicPr/>
          <p:nvPr/>
        </p:nvPicPr>
        <p:blipFill>
          <a:blip r:embed="rId1"/>
          <a:stretch/>
        </p:blipFill>
        <p:spPr>
          <a:xfrm>
            <a:off x="2124000" y="2781360"/>
            <a:ext cx="6610320" cy="386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maps-of-britain.co.uk/images/britain-politcal-map.jpg"/>
          <p:cNvPicPr/>
          <p:nvPr/>
        </p:nvPicPr>
        <p:blipFill>
          <a:blip r:embed="rId2"/>
          <a:stretch/>
        </p:blipFill>
        <p:spPr>
          <a:xfrm>
            <a:off x="395280" y="3500280"/>
            <a:ext cx="1382760" cy="2157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188640"/>
            <a:ext cx="5400720" cy="2376360"/>
          </a:xfrm>
          <a:prstGeom prst="rect">
            <a:avLst/>
          </a:prstGeom>
          <a:noFill/>
          <a:ln w="28440">
            <a:solidFill>
              <a:srgbClr val="43853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But a lot of the land was useless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-Mountains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-Cold Arctic air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-Forests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58" name="Picture 2" descr="http://www.ecosystema.ru/08nature/world/ms/09.jpg"/>
          <p:cNvPicPr/>
          <p:nvPr/>
        </p:nvPicPr>
        <p:blipFill>
          <a:blip r:embed="rId1"/>
          <a:srcRect l="0" t="0" r="0" b="6225"/>
          <a:stretch/>
        </p:blipFill>
        <p:spPr>
          <a:xfrm>
            <a:off x="4716360" y="1197000"/>
            <a:ext cx="4103640" cy="2886120"/>
          </a:xfrm>
          <a:prstGeom prst="rect">
            <a:avLst/>
          </a:prstGeom>
          <a:ln w="38160">
            <a:solidFill>
              <a:srgbClr val="80caff"/>
            </a:solidFill>
            <a:miter/>
          </a:ln>
        </p:spPr>
      </p:pic>
      <p:pic>
        <p:nvPicPr>
          <p:cNvPr id="59" name="Picture 4" descr="http://www.voyagesphotosmanu.com/Complet/images/russia_mountains.jpg"/>
          <p:cNvPicPr/>
          <p:nvPr/>
        </p:nvPicPr>
        <p:blipFill>
          <a:blip r:embed="rId2"/>
          <a:stretch/>
        </p:blipFill>
        <p:spPr>
          <a:xfrm>
            <a:off x="250920" y="2997360"/>
            <a:ext cx="4321080" cy="2952720"/>
          </a:xfrm>
          <a:prstGeom prst="rect">
            <a:avLst/>
          </a:prstGeom>
          <a:ln w="57240">
            <a:solidFill>
              <a:srgbClr val="80caff"/>
            </a:solidFill>
            <a:miter/>
          </a:ln>
        </p:spPr>
      </p:pic>
      <p:sp>
        <p:nvSpPr>
          <p:cNvPr id="60" name="TextBox 5"/>
          <p:cNvSpPr/>
          <p:nvPr/>
        </p:nvSpPr>
        <p:spPr>
          <a:xfrm>
            <a:off x="4716360" y="4365720"/>
            <a:ext cx="4176720" cy="24699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In 1900 only 5% of the land was used for farming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Industry and Trade were also affected</a:t>
            </a:r>
            <a:endParaRPr b="0" lang="en-US" sz="26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61" name="Right Arrow 6" descr=""/>
          <p:cNvPicPr/>
          <p:nvPr/>
        </p:nvPicPr>
        <p:blipFill>
          <a:blip r:embed="rId3"/>
          <a:stretch/>
        </p:blipFill>
        <p:spPr>
          <a:xfrm>
            <a:off x="3602160" y="5919840"/>
            <a:ext cx="1214280" cy="26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258920" y="5877000"/>
            <a:ext cx="129708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y??</a:t>
            </a:r>
            <a:endParaRPr b="0" lang="en-US" sz="24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63" name="Picture 8" descr="Physical Russia map"/>
          <p:cNvPicPr/>
          <p:nvPr/>
        </p:nvPicPr>
        <p:blipFill>
          <a:blip r:embed="rId4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324000" y="260280"/>
            <a:ext cx="4248000" cy="947160"/>
          </a:xfrm>
          <a:prstGeom prst="rect">
            <a:avLst/>
          </a:prstGeom>
          <a:noFill/>
          <a:ln w="28440">
            <a:solidFill>
              <a:srgbClr val="6ea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Who lived in the Russian Empire ?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1628640"/>
          <a:ext cx="6985080" cy="4032360"/>
        </p:xfrm>
        <a:graphic>
          <a:graphicData uri="http://schemas.openxmlformats.org/drawingml/2006/table">
            <a:tbl>
              <a:tblPr/>
              <a:tblGrid>
                <a:gridCol w="3492720"/>
                <a:gridCol w="3492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18720">
                      <a:solidFill>
                        <a:srgbClr val="92d05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18720">
                      <a:solidFill>
                        <a:srgbClr val="92d05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Russian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1872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5,65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1872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Ukranian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22,40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Jew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,00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German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1,80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stonian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Finn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2,50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Romanian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1,110,0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2d050"/>
                      </a:solidFill>
                    </a:lnL>
                    <a:lnR w="5760">
                      <a:solidFill>
                        <a:srgbClr val="92d050"/>
                      </a:solidFill>
                    </a:lnR>
                    <a:lnT w="5760">
                      <a:solidFill>
                        <a:srgbClr val="92d050"/>
                      </a:solidFill>
                    </a:lnT>
                    <a:lnB w="5760">
                      <a:solidFill>
                        <a:srgbClr val="92d050"/>
                      </a:solidFill>
                    </a:lnB>
                    <a:solidFill>
                      <a:srgbClr val="cbd5e8"/>
                    </a:solidFill>
                  </a:tcPr>
                </a:tc>
              </a:tr>
            </a:tbl>
          </a:graphicData>
        </a:graphic>
      </p:graphicFrame>
      <p:grpSp>
        <p:nvGrpSpPr>
          <p:cNvPr id="66" name="Group 7"/>
          <p:cNvGrpSpPr/>
          <p:nvPr/>
        </p:nvGrpSpPr>
        <p:grpSpPr>
          <a:xfrm>
            <a:off x="826920" y="333360"/>
            <a:ext cx="8066160" cy="6491520"/>
            <a:chOff x="826920" y="333360"/>
            <a:chExt cx="8066160" cy="6491520"/>
          </a:xfrm>
        </p:grpSpPr>
        <p:sp>
          <p:nvSpPr>
            <p:cNvPr id="67" name="TextBox 5"/>
            <p:cNvSpPr/>
            <p:nvPr/>
          </p:nvSpPr>
          <p:spPr>
            <a:xfrm>
              <a:off x="826920" y="5877720"/>
              <a:ext cx="6049800" cy="94716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7030a0"/>
                  </a:solidFill>
                  <a:latin typeface="Comic Sans MS"/>
                </a:rPr>
                <a:t>Any many, many more nationalities</a:t>
              </a:r>
              <a:endParaRPr b="0" lang="en-US" sz="2800" spc="-1" strike="noStrike">
                <a:solidFill>
                  <a:srgbClr val="7030a0"/>
                </a:solidFill>
                <a:latin typeface="Comic Sans MS"/>
              </a:endParaRPr>
            </a:p>
          </p:txBody>
        </p:sp>
        <p:sp>
          <p:nvSpPr>
            <p:cNvPr id="68" name="TextBox 6"/>
            <p:cNvSpPr/>
            <p:nvPr/>
          </p:nvSpPr>
          <p:spPr>
            <a:xfrm>
              <a:off x="6516360" y="333360"/>
              <a:ext cx="2376720" cy="70380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7030a0"/>
                  </a:solidFill>
                  <a:latin typeface="Comic Sans MS"/>
                </a:rPr>
                <a:t>Total population: 125 million </a:t>
              </a:r>
              <a:endParaRPr b="0" lang="en-US" sz="2000" spc="-1" strike="noStrike">
                <a:solidFill>
                  <a:srgbClr val="7030a0"/>
                </a:solidFill>
                <a:latin typeface="Comic Sans MS"/>
              </a:endParaRPr>
            </a:p>
          </p:txBody>
        </p:sp>
      </p:grpSp>
    </p:spTree>
  </p:cSld>
  <p:transition>
    <p:pull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illustrationsof.com/royalty-free-question-mark-clipart-illustration-1098898.jpg"/>
          <p:cNvPicPr/>
          <p:nvPr/>
        </p:nvPicPr>
        <p:blipFill>
          <a:blip r:embed="rId1"/>
          <a:srcRect l="0" t="0" r="0" b="46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95280" y="1988640"/>
            <a:ext cx="8229600" cy="2189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What problems do you think there would be with so many different nationalities?</a:t>
            </a:r>
            <a:endParaRPr b="0" lang="en-US" sz="4400" spc="-1" strike="noStrike">
              <a:solidFill>
                <a:srgbClr val="7030a0"/>
              </a:solidFill>
              <a:latin typeface="Comic Sans MS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333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. Explain the geography of Russia. Mention it’s size and the climate.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2. What problems did Russia’s climate create?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3. Look at the table of the population of the Russia Empire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a) How many nationalities are named?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b)If the total population is 125 million, how many people in Russia are non-Russian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4. What problems do you think non-Russians faced being governed by a Russian Tsar?</a:t>
            </a:r>
            <a:endParaRPr b="0" lang="en-US" sz="2800" spc="-1" strike="noStrike">
              <a:solidFill>
                <a:srgbClr val="7030a0"/>
              </a:solidFill>
              <a:latin typeface="Comic Sans MS"/>
            </a:endParaRPr>
          </a:p>
        </p:txBody>
      </p:sp>
      <p:pic>
        <p:nvPicPr>
          <p:cNvPr id="72" name="Picture 2" descr="http://www.clker.com/cliparts/K/0/N/F/h/W/task-md.png"/>
          <p:cNvPicPr/>
          <p:nvPr/>
        </p:nvPicPr>
        <p:blipFill>
          <a:blip r:embed="rId1"/>
          <a:stretch/>
        </p:blipFill>
        <p:spPr>
          <a:xfrm rot="1408200">
            <a:off x="7411680" y="4981680"/>
            <a:ext cx="1547640" cy="1714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3:52:54Z</dcterms:created>
  <dc:creator>Natalie1990</dc:creator>
  <dc:description/>
  <dc:language>en-US</dc:language>
  <cp:lastModifiedBy>Natalie1990</cp:lastModifiedBy>
  <dcterms:modified xsi:type="dcterms:W3CDTF">2013-07-29T15:16:50Z</dcterms:modified>
  <cp:revision>9</cp:revision>
  <dc:subject/>
  <dc:title>Imperial Russia</dc:title>
</cp:coreProperties>
</file>